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C5B-D8C1-4F7A-BABF-0945073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0F0-4E42-4D5D-A71A-BDF4CC7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FB9-BC17-4E70-90AD-0A9DB7F6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AD6-00BC-4DCE-9A16-80C81BDC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B66-31C8-4807-98F6-6F12967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B05-7479-48C0-977E-9853895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DCE-79C4-414D-82D0-5AFBEDC8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F52-1E02-4270-88E3-EEE3CEE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FB7-6C03-4ABF-ADC0-09E8200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5B9-42F1-4FBD-8482-DEF3F33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E27-1F29-49FB-815A-71ED248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DF8-9B00-4637-A79B-265ED31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7AC-02A5-4B55-AA40-6DDD88652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ing Ou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wer Point Presentation by Mrs. K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0028_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brainstorm to narrow top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2133720"/>
          <a:ext cx="8076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76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, narrow fur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981080"/>
          <a:ext cx="84582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58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do the same for weap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66840" y="1981080"/>
          <a:ext cx="6610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981080"/>
                    <a:ext cx="6610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t be answered in just a few words?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d where did the Challenger explo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eople died during the attacks at Pearl Har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_sts" descr=""/>
          <p:cNvPicPr/>
          <p:nvPr/>
        </p:nvPicPr>
        <p:blipFill>
          <a:blip r:embed="rId1"/>
          <a:stretch/>
        </p:blipFill>
        <p:spPr>
          <a:xfrm>
            <a:off x="7391520" y="3124080"/>
            <a:ext cx="98244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ph04" descr="The Arizona ablaze"/>
          <p:cNvPicPr/>
          <p:nvPr/>
        </p:nvPicPr>
        <p:blipFill>
          <a:blip r:embed="rId2"/>
          <a:stretch/>
        </p:blipFill>
        <p:spPr>
          <a:xfrm>
            <a:off x="4495680" y="5486400"/>
            <a:ext cx="11131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it take too many pages to answer the questio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ed during the Vietnam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history of schools in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akes Mr. Jaffe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452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oxset" descr="Photo of boxed set"/>
          <p:cNvPicPr/>
          <p:nvPr/>
        </p:nvPicPr>
        <p:blipFill>
          <a:blip r:embed="rId1"/>
          <a:stretch/>
        </p:blipFill>
        <p:spPr>
          <a:xfrm>
            <a:off x="685800" y="2117880"/>
            <a:ext cx="3809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it make sens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ere the Rolling Stones and why did they break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Lee Harvey Oswald kill Robert Kenne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aulsen-stonesinterview" descr="The Rolling Stones photographed by Don Paulsen"/>
          <p:cNvPicPr/>
          <p:nvPr/>
        </p:nvPicPr>
        <p:blipFill>
          <a:blip r:embed="rId1"/>
          <a:stretch/>
        </p:blipFill>
        <p:spPr>
          <a:xfrm>
            <a:off x="1214280" y="198108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too many pro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629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the major tanks, airplanes, and artillery used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as Princess Diana’s childhood, education, marriage, and divorc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ere the crew members of the Challenger, what caused it to explode, and what was the reaction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664000" y="1371600"/>
            <a:ext cx="3816000" cy="3994200"/>
            <a:chOff x="2664000" y="1371600"/>
            <a:chExt cx="3816000" cy="3994200"/>
          </a:xfrm>
        </p:grpSpPr>
        <p:sp>
          <p:nvSpPr>
            <p:cNvPr id="69" name=""/>
            <p:cNvSpPr/>
            <p:nvPr/>
          </p:nvSpPr>
          <p:spPr>
            <a:xfrm>
              <a:off x="2664000" y="1371600"/>
              <a:ext cx="3314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4000" y="1371600"/>
              <a:ext cx="38160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di" descr="Princess Diana, Many Will miss you"/>
          <p:cNvPicPr/>
          <p:nvPr/>
        </p:nvPicPr>
        <p:blipFill>
          <a:blip r:embed="rId1"/>
          <a:stretch/>
        </p:blipFill>
        <p:spPr>
          <a:xfrm>
            <a:off x="452520" y="3657600"/>
            <a:ext cx="89208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76480" y="3086280"/>
            <a:ext cx="6789600" cy="360"/>
            <a:chOff x="1176480" y="3086280"/>
            <a:chExt cx="6789600" cy="360"/>
          </a:xfrm>
        </p:grpSpPr>
        <p:sp>
          <p:nvSpPr>
            <p:cNvPr id="74" name=""/>
            <p:cNvSpPr/>
            <p:nvPr/>
          </p:nvSpPr>
          <p:spPr>
            <a:xfrm>
              <a:off x="1176480" y="308628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76480" y="308628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0" y="3086280"/>
            <a:ext cx="9144000" cy="685800"/>
            <a:chOff x="0" y="3086280"/>
            <a:chExt cx="9144000" cy="685800"/>
          </a:xfrm>
        </p:grpSpPr>
        <p:sp>
          <p:nvSpPr>
            <p:cNvPr id="77" name=""/>
            <p:cNvSpPr/>
            <p:nvPr/>
          </p:nvSpPr>
          <p:spPr>
            <a:xfrm>
              <a:off x="0" y="3086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08628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sherman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211400" cy="62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51814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cauliffeIV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143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 obvious answ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eorge W. Bush and why is he famo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obacco bad for your healt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tory of Christmas?  What does it mean to peop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200" y="103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umb" descr="dumb.jpg (12388 bytes)"/>
          <p:cNvPicPr/>
          <p:nvPr/>
        </p:nvPicPr>
        <p:blipFill>
          <a:blip r:embed="rId1"/>
          <a:srcRect l="12394" t="1724" r="10387" b="29314"/>
          <a:stretch/>
        </p:blipFill>
        <p:spPr>
          <a:xfrm>
            <a:off x="1447920" y="2057400"/>
            <a:ext cx="21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21:17:12Z</dcterms:created>
  <dc:creator>Administrator</dc:creator>
  <dc:description/>
  <dc:language>en-US</dc:language>
  <cp:lastModifiedBy>Mill Creek Elementary School</cp:lastModifiedBy>
  <dcterms:modified xsi:type="dcterms:W3CDTF">2004-04-23T17:16:48Z</dcterms:modified>
  <cp:revision>7</cp:revision>
  <dc:subject/>
  <dc:title>Questioning Our Questions</dc:title>
</cp:coreProperties>
</file>